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ct" ContentType="image/x-pict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32461200" cy="4343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423600" y="1822320"/>
            <a:ext cx="18221400" cy="31096080"/>
          </a:xfrm>
          <a:prstGeom prst="rect">
            <a:avLst/>
          </a:prstGeom>
          <a:solidFill>
            <a:srgbClr val="ade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5.pct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487400" y="20015280"/>
            <a:ext cx="4444920" cy="5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90920" y="463680"/>
            <a:ext cx="3686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IP Federated Search for Water Cycle Data:  Cluster Mashu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911840" y="514440"/>
            <a:ext cx="1146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pher Lynn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ddard Earth Sciences Data and Information Science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k Hu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-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0200" y="3043080"/>
            <a:ext cx="109249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d obtaining data across a diverse set of providers remains a tedious, time-consuming process.  A plethora of dataset directories exist, yet searching for specific data files often requires going to individual provider search tools.  The ESIP Federated Search Cluster was formed to provide a low-cost, grassroots approach to this problem.  Water Cycle data in particular is susceptible to this issue, with key data resources dispersed at a wide variety of sites. We will present the progress of a project to implement end-to-end federated search across multiple Water Cycle data providers, beginning first with the GES DISC and the ACCESS-NEWS projects, but eventually pulling in such sources as the Global Hydrology Research Center,  National Snow and Ice Data Center and MODIS Adaptive Process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640" y="10698120"/>
            <a:ext cx="114271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Cycle data are stored all over the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2130480"/>
            <a:ext cx="1142676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5379280"/>
            <a:ext cx="11426760" cy="827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deration relies on a common understa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1638080"/>
            <a:ext cx="11329920" cy="585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3720" y="18583200"/>
            <a:ext cx="1142676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ere an easy way for users to find all that da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4320" y="1774980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see your site?  Add it with the Sharp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381400" y="19521360"/>
            <a:ext cx="7634160" cy="379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120" y="23572800"/>
            <a:ext cx="1101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d Search:  If a client could search all the provider sites, the way Amazon searches its affiliated providers for that obscure Vikram Seth book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680" y="26460360"/>
            <a:ext cx="11775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: “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ultiple computing and/or network providers agreeing upon standards of operation in a collective fashi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SIP Federated Search Cluster was formed to agree upon standards for distributed search of participating provi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search down to the granule / fil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space-tim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ki.esipfed.org/index.php/Federated_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IP Federated Search is based on OpenSearch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440" y="2160720"/>
            <a:ext cx="1725768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en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440" y="10801440"/>
            <a:ext cx="1725768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ted Two-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830480" y="22332960"/>
            <a:ext cx="15501240" cy="9615600"/>
            <a:chOff x="13830480" y="22332960"/>
            <a:chExt cx="15501240" cy="9615600"/>
          </a:xfrm>
        </p:grpSpPr>
        <p:sp>
          <p:nvSpPr>
            <p:cNvPr id="56" name=""/>
            <p:cNvSpPr/>
            <p:nvPr/>
          </p:nvSpPr>
          <p:spPr>
            <a:xfrm>
              <a:off x="15873120" y="23606280"/>
              <a:ext cx="182844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li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802080" y="22398120"/>
              <a:ext cx="238392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ataset Query Eng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225360" y="22350600"/>
              <a:ext cx="21063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Granule Query Eng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3760" y="24409440"/>
              <a:ext cx="2880" cy="753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53080" y="24409440"/>
              <a:ext cx="1080" cy="753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455160" y="24385680"/>
              <a:ext cx="2880" cy="753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336680" y="24385680"/>
              <a:ext cx="2880" cy="753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805160" y="25134840"/>
              <a:ext cx="31539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6795440" y="26160480"/>
              <a:ext cx="31557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836840" y="27576360"/>
              <a:ext cx="75196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6769880" y="28986120"/>
              <a:ext cx="77209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87520" y="30233880"/>
              <a:ext cx="114850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6822440" y="31548240"/>
              <a:ext cx="114645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725160" y="29706840"/>
              <a:ext cx="314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granule que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31360" y="31080240"/>
              <a:ext cx="314928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granule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267280" y="27057240"/>
              <a:ext cx="398592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OpenSearch Description Reque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830480" y="30254760"/>
              <a:ext cx="26157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Granule Sear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978800" y="24666480"/>
              <a:ext cx="227556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atas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iscove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669200" y="22332960"/>
              <a:ext cx="37731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OpenSearch Description Document St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40200" y="28540080"/>
              <a:ext cx="417960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OpenSearch Description Doc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13000" y="24525360"/>
              <a:ext cx="3250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dataset que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427880" y="25511040"/>
              <a:ext cx="373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Optima"/>
                  <a:ea typeface="Optima"/>
                </a:rPr>
                <a:t>dataset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045480" y="28032120"/>
              <a:ext cx="3998520" cy="152388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1960" y="28082880"/>
              <a:ext cx="29746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 Italic"/>
                </a:rPr>
                <a:t>with template for granule que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33960" y="24545880"/>
              <a:ext cx="4552560" cy="249732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84840" y="24649200"/>
              <a:ext cx="394596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 Italic"/>
                </a:rPr>
                <a:t>with link to OpenSearch Description Document for 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Arial"/>
                  <a:ea typeface="Arial Italic"/>
                </a:rPr>
                <a:t>each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 Italic"/>
                </a:rPr>
                <a:t> datas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3042800" y="11764800"/>
            <a:ext cx="1697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Dataset Discovery:  Search for datasets and select the ones of interest for granule-level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Granule Search:  For selected datasets, execute space-time query for desired gran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Two-Step process avoids the effort of searching and weeding through granule results for irrelevant data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074480" y="14619240"/>
            <a:ext cx="17013240" cy="73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Challenge:  how to use the results from Step 1 in 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st do we query for gran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syntax for the granule-level que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kind of dataset identifier do we pass to the query?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Short name, long name, a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swer: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cursive Open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-level results link to the OpenSearch Description Documents for the granule-level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identifier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ready filled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templat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lt;os:Url type="application/atom+xml”template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"http://mirador.gsfc.nasa.gov/cgi-bin/mirador/granlist.pl?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ndale Mono"/>
                <a:ea typeface="ヒラギノ角ゴ ProN W3"/>
              </a:rPr>
              <a:t>dataSet=AIRS2RET.005</a:t>
            </a: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amp;amp;page=1&amp;amp;maxgranules={count}&amp;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pointLocation={geo:box}&amp;amp;endTime={time:end}&amp;amp;startTime={time:start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amp;amp;format=atom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dale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03200" y="7056360"/>
            <a:ext cx="170798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OpenSearch Description Document includes URL temp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lt;os:Url type="application/atom+xml" template="http://mirador.gsfc.nasa.gov/cgi-bin/mirador/granlist.pl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dataSet=AIRS2RET.005&amp;amp;page=1&amp;amp;maxgranules={count}&amp;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pointLocation=</a:t>
            </a:r>
            <a:r>
              <a:rPr b="0" lang="en-US" sz="2800" spc="-1" strike="noStrike">
                <a:solidFill>
                  <a:srgbClr val="0000ff"/>
                </a:solidFill>
                <a:latin typeface="Andale Mono"/>
                <a:ea typeface="ヒラギノ角ゴ ProN W3"/>
              </a:rPr>
              <a:t>{geo:box}</a:t>
            </a: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amp;amp;endTime=</a:t>
            </a:r>
            <a:r>
              <a:rPr b="0" lang="en-US" sz="2800" spc="-1" strike="noStrike">
                <a:solidFill>
                  <a:srgbClr val="0000ff"/>
                </a:solidFill>
                <a:latin typeface="Andale Mono"/>
                <a:ea typeface="ヒラギノ角ゴ ProN W3"/>
              </a:rPr>
              <a:t>{time:end}</a:t>
            </a: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amp;amp;startTime=</a:t>
            </a:r>
            <a:r>
              <a:rPr b="0" lang="en-US" sz="2800" spc="-1" strike="noStrike">
                <a:solidFill>
                  <a:srgbClr val="0000ff"/>
                </a:solidFill>
                <a:latin typeface="Andale Mono"/>
                <a:ea typeface="ヒラギノ角ゴ ProN W3"/>
              </a:rPr>
              <a:t>{time:start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&amp;amp;format=atom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Just replace placeholders with search criteria and fetch the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793560" y="3330720"/>
            <a:ext cx="5359320" cy="415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009680" y="2951280"/>
            <a:ext cx="11728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ヒラギノ角ゴ ProN W3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ヒラギノ角ゴ ProN W3"/>
              </a:rPr>
              <a:t>www.opensearch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a collection of simple formats for the sharing of search resul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OpenSearch Description Document (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Describes a search engine so that it can be used by search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pecifies syntax / semantics for URL-bas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Extensions proposed for Geospatial and Tim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76040" y="4792680"/>
            <a:ext cx="2076480" cy="41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167360" y="19521360"/>
            <a:ext cx="1188396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nitial end-to-end attempt:  Mirador + ACCESS-N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67360" y="2157480"/>
            <a:ext cx="1188396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I need for an ESIP Federated Search ser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89600" y="10748880"/>
            <a:ext cx="1188396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IP Federated Search Cl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59440" y="11671200"/>
            <a:ext cx="1189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ient can be as simple as an XSLT, attached to the OpenSearch Description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60960" y="13542840"/>
            <a:ext cx="40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owser renders the OSDD as a fully functional search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68880" y="15925680"/>
            <a:ext cx="1218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so avail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reference implementation / test 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80 lines of simple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329360" y="17436960"/>
            <a:ext cx="114840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ents 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irad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ES DISC):  a granule-level search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alko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AH):  an Earth science collabor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997520" y="29651400"/>
            <a:ext cx="4249800" cy="248976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 DISC @ GS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Cycle and A-Trai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406160" y="29648160"/>
            <a:ext cx="4807080" cy="2489760"/>
          </a:xfrm>
          <a:prstGeom prst="can">
            <a:avLst>
              <a:gd name="adj" fmla="val 25000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-NEWS @ J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ged Water Cycle data from A-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1472280" y="20809080"/>
            <a:ext cx="11110680" cy="7913520"/>
          </a:xfrm>
          <a:prstGeom prst="rect">
            <a:avLst/>
          </a:prstGeom>
          <a:ln w="0">
            <a:noFill/>
          </a:ln>
        </p:spPr>
      </p:pic>
      <p:cxnSp>
        <p:nvCxnSpPr>
          <p:cNvPr id="98" name=""/>
          <p:cNvCxnSpPr>
            <a:stCxn id="97" idx="2"/>
            <a:endCxn id="95" idx="1"/>
          </p:cNvCxnSpPr>
          <p:nvPr/>
        </p:nvCxnSpPr>
        <p:spPr>
          <a:xfrm flipH="1">
            <a:off x="34122600" y="28722600"/>
            <a:ext cx="29052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lg" type="triangle" w="lg"/>
          </a:ln>
        </p:spPr>
      </p:cxnSp>
      <p:cxnSp>
        <p:nvCxnSpPr>
          <p:cNvPr id="99" name=""/>
          <p:cNvCxnSpPr>
            <a:stCxn id="97" idx="2"/>
            <a:endCxn id="96" idx="1"/>
          </p:cNvCxnSpPr>
          <p:nvPr/>
        </p:nvCxnSpPr>
        <p:spPr>
          <a:xfrm>
            <a:off x="37027440" y="28722600"/>
            <a:ext cx="2782800" cy="9259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lg" type="triangle" w="lg"/>
          </a:ln>
        </p:spPr>
      </p:cxnSp>
      <p:graphicFrame>
        <p:nvGraphicFramePr>
          <p:cNvPr id="100" name=""/>
          <p:cNvGraphicFramePr/>
          <p:nvPr/>
        </p:nvGraphicFramePr>
        <p:xfrm>
          <a:off x="31345200" y="2941560"/>
          <a:ext cx="11580840" cy="5666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45200" y="2941560"/>
                    <a:ext cx="115808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4747560" y="8543880"/>
            <a:ext cx="472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rvers 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008120" y="9174240"/>
            <a:ext cx="6066360" cy="2045160"/>
            <a:chOff x="34008120" y="9174240"/>
            <a:chExt cx="6066360" cy="2045160"/>
          </a:xfrm>
        </p:grpSpPr>
        <p:sp>
          <p:nvSpPr>
            <p:cNvPr id="104" name=""/>
            <p:cNvSpPr/>
            <p:nvPr/>
          </p:nvSpPr>
          <p:spPr>
            <a:xfrm>
              <a:off x="34008120" y="9174240"/>
              <a:ext cx="2759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ACCESS-NEW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EC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GES DIS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91680" y="9175680"/>
              <a:ext cx="188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GHR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ODA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SID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39560" y="277920"/>
            <a:ext cx="2311200" cy="1559520"/>
            <a:chOff x="439560" y="277920"/>
            <a:chExt cx="2311200" cy="1559520"/>
          </a:xfrm>
        </p:grpSpPr>
        <p:sp>
          <p:nvSpPr>
            <p:cNvPr id="107" name=""/>
            <p:cNvSpPr/>
            <p:nvPr/>
          </p:nvSpPr>
          <p:spPr>
            <a:xfrm>
              <a:off x="439560" y="277920"/>
              <a:ext cx="2311200" cy="155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439560" y="277920"/>
              <a:ext cx="2311200" cy="155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35317800" y="203518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ador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5426520" y="12260160"/>
            <a:ext cx="5981760" cy="3151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95960" y="32240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17:33Z</dcterms:created>
  <dc:creator>clynnes</dc:creator>
  <dc:description/>
  <cp:keywords/>
  <dc:language>en-US</dc:language>
  <cp:lastModifiedBy>Christopher Lynnes</cp:lastModifiedBy>
  <cp:lastPrinted>2009-12-30T17:49:13Z</cp:lastPrinted>
  <dcterms:modified xsi:type="dcterms:W3CDTF">2009-12-30T19:22:00Z</dcterms:modified>
  <cp:revision>168</cp:revision>
  <dc:subject/>
  <dc:title>PowerPoint Presentation</dc:title>
</cp:coreProperties>
</file>